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BC4-F83D-4F73-BCE3-086BB2F2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7BB7-0AD1-48B4-94D3-08C7EC02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5F2-0254-426D-929B-28D2D7B3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9D4-86C7-4B76-BAEF-9A218FA2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247-3F9B-4106-92CA-52BF38B8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8D0-E6BE-465D-8E9D-40FB3F1B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C520-87F6-4EC1-AD97-87EA83B2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2DF-44FF-4777-9A42-FF935DF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79C-53EC-453D-9666-63D4B7C9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78E-6101-406A-81B1-56ECA818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2E5F-50C7-423A-B353-2DE65782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ED5-48C6-403A-95F2-4C5077D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514-A414-43BD-B348-C3CC5EC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E07-A2C1-4B46-9508-16B9503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F52-C0A7-453E-8645-4B9619BE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Rhahmina. Vivo en NY. Yo tengo catorce años.  Yo soy simpática, bonita y divertidas. Yo tengo tres  hermanos, son fastidioso.  Tenemos dos inteligente pájaros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7:15Z</dcterms:modified>
  <cp:revision>108</cp:revision>
  <dc:subject/>
  <dc:title>Profile</dc:title>
</cp:coreProperties>
</file>